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0.jpeg" ContentType="image/jpeg"/>
  <Override PartName="/ppt/media/image14.png" ContentType="image/pn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AE9-5E9D-4B17-9F27-1E125071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EA0-4CC6-453F-902F-CA940A57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BEF-7A72-4A7A-9512-626C8F26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60D-0BE5-4999-93E7-45811A49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C8AD-4352-444D-8666-08C51E4A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E216-84BF-44A4-9D9D-AA730388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FCB8-B42C-4367-B48F-F702954C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06E-6779-4A52-A69C-35F50B5C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8FF1-92DE-41C1-B415-5E34A787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7BF9-D8B2-41E0-87BF-21AEF9DD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FF1F-9742-46F4-9288-F0F9AB42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1B2-75B4-4EDF-B15F-D2DD5731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1C7F-89C7-48BC-AB6B-4613487E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0FEB-DFE1-4779-B633-8EBADA07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5AD2-09B6-4AC2-BF5A-82FF5B42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EE34-23A4-4FD2-8F21-EC7A987D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82AC-C250-410E-8BEC-A9D6B5ED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285C-C09A-4619-B261-7332F4D8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7F4FE-B211-401B-BBD2-82320011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F25F-A5FC-4E4A-BCAC-E8BA0B15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BFE2-8D26-49CD-B44F-99930F9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A8D6-FF7C-4BC8-B533-A4EE0446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20F-7224-4609-9D22-A66489AF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49F0-0BCC-4085-92E0-EE10A3D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F2D4-15DE-484C-974A-A330E391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7123-6A8C-41FA-83A8-3E1F7B50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3352-BF43-4F12-A304-3057FBB5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1636-90B5-4DC2-86ED-34BBA3F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A75B-6F4C-4E91-9583-82FD4362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FD30-CF07-4274-921C-F4FAE4FA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77F8-9A4B-4257-BD70-44ACB230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FDE8-4F4C-4C53-94F8-B7D5173B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CE20-59FC-4660-B9D8-2CD3DD3E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77A-13B7-4052-9B5C-D5CB860A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D27E-6F45-4DDB-8341-7612BD6A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7F4DE-FC4D-4923-B955-F5DCA844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F6A4-2C43-4117-9243-4CCEEB78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2574C-3D67-4ED2-9A4F-986A287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E716-9E60-48AC-8250-67E14BE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18A7D-065F-4389-A6EB-26A5954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7FCFF-1E1D-4FFF-A3D7-3ED45D4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5544-42EC-455A-ADE2-81D80507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C9AB-3CC1-4CE8-80DC-5090EFB1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CCA98-E54A-483D-B4E3-975F6FA4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7EA-A520-43A4-BE80-11A9F32B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93081-B68C-46CC-8F7E-6C4B3E68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54DEC-3E0F-4B3A-9E22-9FBB3EE6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A4AE-0BFB-4114-8FEC-EDFE110B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93D5-D143-4944-9584-F017B9BA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67A1-3F79-4DAF-890B-85D044F0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CB179-600C-4ADE-8199-4D37096D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628DC-F310-447E-B0B3-A95D6217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AAA8-77D9-42DB-872F-1A774853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2105-986B-4556-8C67-2B443822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961E-761D-48F1-90CB-B913EB91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6C8-C122-468B-8D33-E6F09FE1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D688-107E-4B5E-BE31-5144B5FE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D1118-4A28-4A51-A97C-8FD5AEE2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13008-C11C-460F-B4F3-6D4EB34E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ECB73-7F23-4F7C-863E-7968BB0B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5B0C9-D8F7-41B6-814B-7998ABEF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D1E94-FB81-4815-A732-29375A67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45A85-9CAD-4E50-BFA7-0E75457D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F9B48-0D6F-4FDD-8393-C58EA30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08422-7660-43ED-9004-F2F755B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7A6B8-4B3C-445E-B186-5F38CB77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D86-E614-4E0A-877A-8368C9A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B3AE4-F571-483C-8EE8-7CD94B1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38E9E-2247-4807-BA97-36FE5E41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A0B00-0B36-46A0-8B3F-99D931D3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FCD8B-F686-4BC8-852B-49E7D26A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434FE-5E1B-4B8E-AECB-7106DBEE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AC896-A285-45A8-A758-6BF20082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DB079-3842-43FF-ADE6-19D11D7E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E367C-E1B7-41F7-B109-BEAB32DD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9FA71-A934-4A7C-9253-8ADF7204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AA911-6FA0-448B-834B-92341B61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9C3-65FD-450F-BFD7-FB192156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DD267-ECF1-4B63-B714-79869B4B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C5FA0-319B-47D0-BE0F-A802F6B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2979B-D393-4DBA-95F8-80D495C2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8767-B656-44B1-AA7C-3CFCDE7F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822FE-5544-4E15-8101-54C7F388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0D8-9D98-47E1-AE16-FB00AE8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6E6CC-9EB6-4666-8D10-D8D5CA160425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1E4C1-BB5B-42F3-94FF-1A2763DFC2CC}" type="slidenum">
              <a:rPr b="0" lang="en-US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14D1B-08CB-4AE0-B60B-3F9FCEB23B37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53114-A922-4682-AF5C-E6DD56614448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29647-6B3D-4C18-B75C-E612DB4E13DB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13122-FBEA-4F81-AE08-6EC50D818EC4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40B02-51DF-4053-8DDA-DDC621502459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h. 22/23 Warm-up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What is the evidence for evolution?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(Review) What are the 3 ways that sexual reproduction produces genetic diversity?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What is 1 thing you are grateful for today?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buClr>
                <a:srgbClr val="cf543f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91584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Gene pool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all of the alleles for all genes in all the members of the popul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Diploid species: 2 alleles for a gene (homozygous/heterozygous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Fixed allele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all members of a population only have 1 allele for a particular trai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The more fixed alleles a population has, the LOWER the species’ diversity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Hardy-Weinberg Theorm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Hardy-Weinberg Theorm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The allele and genotype frequencies of a population will remain constant from generation to gener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entury Gothic"/>
              </a:rPr>
              <a:t>…</a:t>
            </a:r>
            <a:r>
              <a:rPr b="0" i="1" lang="en-US" sz="2800" spc="-1" strike="noStrike">
                <a:solidFill>
                  <a:srgbClr val="0000ff"/>
                </a:solidFill>
                <a:latin typeface="Century Gothic"/>
              </a:rPr>
              <a:t>UNLESS they are acted upon by forces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other than Mendelian segregation and recombination of allel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86c71"/>
                </a:solidFill>
                <a:uFillTx/>
                <a:latin typeface="Century Gothic"/>
              </a:rPr>
              <a:t>Equilibrium</a:t>
            </a:r>
            <a:r>
              <a:rPr b="1" lang="en-US" sz="2800" spc="-1" strike="noStrike">
                <a:solidFill>
                  <a:srgbClr val="786c71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= allele and genotype frequencies remain </a:t>
            </a:r>
            <a:r>
              <a:rPr b="0" i="1" lang="en-US" sz="2800" spc="-1" strike="noStrike">
                <a:solidFill>
                  <a:srgbClr val="564b3c"/>
                </a:solidFill>
                <a:latin typeface="Century Gothic"/>
              </a:rPr>
              <a:t>constan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Conditions for Hardy-Weinberg equilibrium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mutation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andom mating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natural selection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Extremely large population size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gene flow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f </a:t>
            </a:r>
            <a:r>
              <a:rPr b="0" lang="en-US" sz="2800" spc="-1" strike="noStrike" u="sng">
                <a:solidFill>
                  <a:srgbClr val="564b3c"/>
                </a:solidFill>
                <a:uFillTx/>
                <a:latin typeface="Century Gothic"/>
              </a:rPr>
              <a:t>at least one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of these conditions is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met, then the population is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EVOLVING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!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44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59840" cy="1084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73040" y="17575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64b3c"/>
                </a:solidFill>
                <a:uFillTx/>
                <a:latin typeface="Georgia"/>
              </a:rPr>
              <a:t>Allele Frequencies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Gene with 2 alleles : p, q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p = frequency of dominant allele (A)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q = frequency of recessive allele (a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4" name="Group 6" descr=""/>
          <p:cNvPicPr/>
          <p:nvPr/>
        </p:nvPicPr>
        <p:blipFill>
          <a:blip r:embed="rId2"/>
          <a:stretch/>
        </p:blipFill>
        <p:spPr>
          <a:xfrm>
            <a:off x="993600" y="4395960"/>
            <a:ext cx="3724560" cy="13953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5638680" y="4267080"/>
            <a:ext cx="2210040" cy="155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 – p = q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 – q = p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Diagram 29" descr=""/>
          <p:cNvPicPr/>
          <p:nvPr/>
        </p:nvPicPr>
        <p:blipFill>
          <a:blip r:embed="rId1"/>
          <a:stretch/>
        </p:blipFill>
        <p:spPr>
          <a:xfrm>
            <a:off x="476280" y="407880"/>
            <a:ext cx="8259840" cy="1086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90680" y="1739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64b3c"/>
                </a:solidFill>
                <a:uFillTx/>
                <a:latin typeface="Georgia"/>
                <a:ea typeface="Georgia"/>
              </a:rPr>
              <a:t>Genotypic Frequencies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  <a:ea typeface="Georgia"/>
              </a:rPr>
              <a:t>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  <a:ea typeface="Georgia"/>
              </a:rPr>
              <a:t>3 genotypes (AA, Aa, aa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p</a:t>
            </a:r>
            <a:r>
              <a:rPr b="0" lang="en-US" sz="2800" spc="-1" strike="noStrike" baseline="30000">
                <a:solidFill>
                  <a:srgbClr val="6b7d72"/>
                </a:solidFill>
                <a:latin typeface="Georgia"/>
                <a:ea typeface="Georgia"/>
              </a:rPr>
              <a:t>2</a:t>
            </a: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 = AA (homozygous dominant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2pq = Aa (heterozygous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q</a:t>
            </a:r>
            <a:r>
              <a:rPr b="0" lang="en-US" sz="2800" spc="-1" strike="noStrike" baseline="30000">
                <a:solidFill>
                  <a:srgbClr val="6b7d72"/>
                </a:solidFill>
                <a:latin typeface="Georgia"/>
                <a:ea typeface="Georgia"/>
              </a:rPr>
              <a:t>2</a:t>
            </a:r>
            <a:r>
              <a:rPr b="0" lang="en-US" sz="2800" spc="-1" strike="noStrike">
                <a:solidFill>
                  <a:srgbClr val="6b7d72"/>
                </a:solidFill>
                <a:latin typeface="Georgia"/>
                <a:ea typeface="Georgia"/>
              </a:rPr>
              <a:t> = aa (homozygous recessive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8" name="Group 30" descr=""/>
          <p:cNvPicPr/>
          <p:nvPr/>
        </p:nvPicPr>
        <p:blipFill>
          <a:blip r:embed="rId2"/>
          <a:stretch/>
        </p:blipFill>
        <p:spPr>
          <a:xfrm>
            <a:off x="1359000" y="3060720"/>
            <a:ext cx="65102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1490760"/>
            <a:ext cx="35686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Allele frequenci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0" name="Picture 6" descr="23_08aHardyWeinberg-L.jpg"/>
          <p:cNvPicPr/>
          <p:nvPr/>
        </p:nvPicPr>
        <p:blipFill>
          <a:blip r:embed="rId1"/>
          <a:stretch/>
        </p:blipFill>
        <p:spPr>
          <a:xfrm>
            <a:off x="3873600" y="1069920"/>
            <a:ext cx="50403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1490760"/>
            <a:ext cx="35686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Genotypic frequenci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2" name="Picture 5" descr="23_08bHardyWeinberg-L.jpg"/>
          <p:cNvPicPr/>
          <p:nvPr/>
        </p:nvPicPr>
        <p:blipFill>
          <a:blip r:embed="rId1"/>
          <a:stretch/>
        </p:blipFill>
        <p:spPr>
          <a:xfrm>
            <a:off x="3873600" y="642960"/>
            <a:ext cx="506556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Book Antiqua"/>
              </a:rPr>
              <a:t>Strategies for solving H-W Problems: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If you are given the </a:t>
            </a:r>
            <a:r>
              <a:rPr b="1" lang="en-US" sz="2600" spc="-1" strike="noStrike" u="sng">
                <a:solidFill>
                  <a:srgbClr val="564b3c"/>
                </a:solidFill>
                <a:uFillTx/>
                <a:latin typeface="Century Gothic"/>
              </a:rPr>
              <a:t>genotypes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(AA, Aa, aa), calculate p and q by adding up the total # of A and a alleles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565920" indent="-452520"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If you know </a:t>
            </a:r>
            <a:r>
              <a:rPr b="1" lang="en-US" sz="2600" spc="-1" strike="noStrike" u="sng">
                <a:solidFill>
                  <a:srgbClr val="564b3c"/>
                </a:solidFill>
                <a:uFillTx/>
                <a:latin typeface="Century Gothic"/>
              </a:rPr>
              <a:t>phenotypes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, then use “aa” to find q</a:t>
            </a:r>
            <a:r>
              <a:rPr b="0" lang="en-US" sz="2600" spc="-1" strike="noStrike" baseline="30000">
                <a:solidFill>
                  <a:srgbClr val="564b3c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, and then q. (p = 1-q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565920" indent="-452520"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To find out if population is evolving, calculate p</a:t>
            </a:r>
            <a:r>
              <a:rPr b="0" lang="en-US" sz="2600" spc="-1" strike="noStrike" baseline="30000">
                <a:solidFill>
                  <a:srgbClr val="564b3c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+ 2pq + q</a:t>
            </a:r>
            <a:r>
              <a:rPr b="0" lang="en-US" sz="2600" spc="-1" strike="noStrike" baseline="30000">
                <a:solidFill>
                  <a:srgbClr val="564b3c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If in </a:t>
            </a:r>
            <a:r>
              <a:rPr b="0" lang="en-US" sz="2600" spc="-1" strike="noStrike" u="sng">
                <a:solidFill>
                  <a:srgbClr val="564b3c"/>
                </a:solidFill>
                <a:uFillTx/>
                <a:latin typeface="Century Gothic"/>
              </a:rPr>
              <a:t>equilibrium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, it should = 1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If it DOES NOT = 1, then the population is </a:t>
            </a:r>
            <a:r>
              <a:rPr b="0" lang="en-US" sz="2600" spc="-1" strike="noStrike" u="sng">
                <a:solidFill>
                  <a:srgbClr val="564b3c"/>
                </a:solidFill>
                <a:uFillTx/>
                <a:latin typeface="Century Gothic"/>
              </a:rPr>
              <a:t>evolving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!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Book Antiqua"/>
              </a:rPr>
              <a:t>Hardy-weinberg practice problem #1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scarlet tiger moth has the following genotypes.  Calculate the allele and genotype frequencies (%) for a population of 1612 moth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AA = 1469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Aa = 138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6b7d72"/>
                </a:solidFill>
                <a:latin typeface="Century Gothic"/>
              </a:rPr>
              <a:t>aa = 5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Allele Frequenci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 =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 =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Genotypic Frequenci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A =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a =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a =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00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Hardy-weinberg practice problem #2:</a:t>
            </a:r>
            <a:br>
              <a:rPr sz="2800"/>
            </a:br>
            <a:r>
              <a:rPr b="0" lang="en-US" sz="28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PTC Tasters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Taster = AA or Aa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Nontaster = aa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5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Tasters = ____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Nontasters = ___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q</a:t>
            </a:r>
            <a:r>
              <a:rPr b="0" lang="en-US" sz="2800" spc="-1" strike="noStrike" baseline="30000">
                <a:solidFill>
                  <a:srgbClr val="564b3c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 =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q =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p + q = 1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p = 1 – q =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p</a:t>
            </a:r>
            <a:r>
              <a:rPr b="0" lang="en-US" sz="2800" spc="-1" strike="noStrike" baseline="30000">
                <a:solidFill>
                  <a:srgbClr val="564b3c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 + 2pq + q</a:t>
            </a:r>
            <a:r>
              <a:rPr b="0" lang="en-US" sz="2800" spc="-1" strike="noStrike" baseline="30000">
                <a:solidFill>
                  <a:srgbClr val="564b3c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 = 1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h. 23 Warm-up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8920" y="1685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30280" indent="-437040">
              <a:spcBef>
                <a:spcPts val="601"/>
              </a:spcBef>
              <a:buClr>
                <a:srgbClr val="b5ae53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 a population of 200 mice, 98 are homozygous dominant for brown coat color (BB), 84 are heterozygous (Bb), and 18 are homozygous (bb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buClr>
                <a:srgbClr val="cf543f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allele frequencies of this population ar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 allele: ___   b allele: ___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buClr>
                <a:srgbClr val="cf543f"/>
              </a:buClr>
              <a:buFont typeface="Century Gothic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genotype frequencies ar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B: ___   Bb: ___    bb: ___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30280" indent="-437040">
              <a:spcBef>
                <a:spcPts val="601"/>
              </a:spcBef>
              <a:buClr>
                <a:srgbClr val="b5ae53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Use the above info to determine the genotype frequencies of the next genera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 (p): ___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 (q): ___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B (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): ___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b (2pq): ___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778320" indent="-436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b (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): ___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30280" indent="-43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6560" y="3200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auses of evolution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36560" y="4606560"/>
            <a:ext cx="7696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Conditions for Hardy-Weinberg equilibrium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mutation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andom mating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natural selection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Extremely large population size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 gene flow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f </a:t>
            </a:r>
            <a:r>
              <a:rPr b="0" lang="en-US" sz="2800" spc="-1" strike="noStrike" u="sng">
                <a:solidFill>
                  <a:srgbClr val="564b3c"/>
                </a:solidFill>
                <a:uFillTx/>
                <a:latin typeface="Century Gothic"/>
              </a:rPr>
              <a:t>at least one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of these conditions is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met, then the population is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EVOLVING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!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34880" y="584280"/>
            <a:ext cx="822960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  <a:ea typeface="ＭＳ Ｐゴシック"/>
              </a:rPr>
              <a:t>Minor Causes of Evolution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#1 - Mutation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are, very small changes in allele frequenci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#2 - Nonrandom mating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Affect genotypes, but not allele frequenci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  <a:ea typeface="ＭＳ Ｐゴシック"/>
              </a:rPr>
              <a:t>Major Causes of Evolution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Natural selection, genetic drift, gene flow (#3-5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Major Causes of Evo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5" name="Picture 5" descr="23_01MedGroundFinch-L.jpg"/>
          <p:cNvPicPr/>
          <p:nvPr/>
        </p:nvPicPr>
        <p:blipFill>
          <a:blip r:embed="rId1"/>
          <a:stretch/>
        </p:blipFill>
        <p:spPr>
          <a:xfrm>
            <a:off x="1527120" y="4111560"/>
            <a:ext cx="3135240" cy="23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6" name="Picture 6" descr="23_02SelectionFoodSource-L.jpg"/>
          <p:cNvPicPr/>
          <p:nvPr/>
        </p:nvPicPr>
        <p:blipFill>
          <a:blip r:embed="rId2"/>
          <a:stretch/>
        </p:blipFill>
        <p:spPr>
          <a:xfrm>
            <a:off x="5095800" y="3638520"/>
            <a:ext cx="2560680" cy="2878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52480"/>
            <a:ext cx="822960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#3 – Natural Selec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ndividuals with variations better suited to environment pass more alleles to next gener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Major Causes of Evo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752480"/>
            <a:ext cx="822960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162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#4 – Genetic Drif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453960" indent="-1620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Small populations have greater chance of fluctuations in allele frequencies from one generation to another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453960" indent="-1620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Examples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649080" indent="-162000">
              <a:spcBef>
                <a:spcPts val="700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Founder Effec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649080" indent="-162000">
              <a:spcBef>
                <a:spcPts val="700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Bottleneck Effect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453960" indent="-1620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914400" y="5395680"/>
            <a:ext cx="724536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Gothic"/>
              </a:rPr>
              <a:t>Genetic Drift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1" name="Picture Placeholder 6" descr="23_09GeneticDrift_3-L.jpg"/>
          <p:cNvPicPr/>
          <p:nvPr/>
        </p:nvPicPr>
        <p:blipFill>
          <a:blip r:embed="rId1"/>
          <a:srcRect l="0" t="605" r="0" b="605"/>
          <a:stretch/>
        </p:blipFill>
        <p:spPr>
          <a:xfrm>
            <a:off x="250920" y="380880"/>
            <a:ext cx="87278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030a0"/>
                </a:solidFill>
                <a:latin typeface="Book Antiqua"/>
                <a:ea typeface="ＭＳ Ｐゴシック"/>
              </a:rPr>
              <a:t>Founder Effec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7521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1987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A few individuals isolated from larger popul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298440" indent="-19872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Certain alleles under/over represented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4" name="Picture 2" descr="http://www-tc.pbs.org/wgbh/evolution/library/06/3/images/l_063_03_l.jpg"/>
          <p:cNvPicPr/>
          <p:nvPr/>
        </p:nvPicPr>
        <p:blipFill>
          <a:blip r:embed="rId1"/>
          <a:stretch/>
        </p:blipFill>
        <p:spPr>
          <a:xfrm>
            <a:off x="4437000" y="3510000"/>
            <a:ext cx="4097520" cy="2343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File:Founder effect.png"/>
          <p:cNvPicPr/>
          <p:nvPr/>
        </p:nvPicPr>
        <p:blipFill>
          <a:blip r:embed="rId2"/>
          <a:stretch/>
        </p:blipFill>
        <p:spPr>
          <a:xfrm>
            <a:off x="457200" y="3510000"/>
            <a:ext cx="3711600" cy="27255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6"/>
          <p:cNvSpPr/>
          <p:nvPr/>
        </p:nvSpPr>
        <p:spPr>
          <a:xfrm>
            <a:off x="4667400" y="5894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lydactyly  in Amish popul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030a0"/>
                </a:solidFill>
                <a:latin typeface="Book Antiqua"/>
                <a:ea typeface="ＭＳ Ｐゴシック"/>
              </a:rPr>
              <a:t>Bottleneck Effec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7521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Sudden change in environment drastically reduces population size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9" name="Picture 4" descr="http://www.ck12.org/ck12/images?id=149351"/>
          <p:cNvPicPr/>
          <p:nvPr/>
        </p:nvPicPr>
        <p:blipFill>
          <a:blip r:embed="rId1"/>
          <a:stretch/>
        </p:blipFill>
        <p:spPr>
          <a:xfrm>
            <a:off x="5172120" y="3041640"/>
            <a:ext cx="3476520" cy="23144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6"/>
          <p:cNvSpPr/>
          <p:nvPr/>
        </p:nvSpPr>
        <p:spPr>
          <a:xfrm>
            <a:off x="5116680" y="54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rthern elephant seals hunted nearly to extinction in Californ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1" name="Picture 8" descr="23_10BottleneckEffect_3-L.jpg"/>
          <p:cNvPicPr/>
          <p:nvPr/>
        </p:nvPicPr>
        <p:blipFill>
          <a:blip r:embed="rId2"/>
          <a:stretch/>
        </p:blipFill>
        <p:spPr>
          <a:xfrm>
            <a:off x="457200" y="3041640"/>
            <a:ext cx="4486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Major Causes of Evolu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2040" y="1752120"/>
            <a:ext cx="50500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#5 – Gene Flow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Movement of fertile individuals between population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Gain/lose allel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educe genetic differences between population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7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4" name="Picture 5" descr="23_12aGeneFlowAdapt-L.jpg"/>
          <p:cNvPicPr/>
          <p:nvPr/>
        </p:nvPicPr>
        <p:blipFill>
          <a:blip r:embed="rId1"/>
          <a:stretch/>
        </p:blipFill>
        <p:spPr>
          <a:xfrm>
            <a:off x="5442120" y="2089080"/>
            <a:ext cx="324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36560" y="3200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534c"/>
                </a:solidFill>
                <a:latin typeface="Book Antiqua"/>
              </a:rPr>
              <a:t>How does natural selection bring about adaptive evolution?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36560" y="4606560"/>
            <a:ext cx="7696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h. 23 warm-up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6440" indent="-483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Use the following information to help you answer the question below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Population = 1000 people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AA = 160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Aa = 480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aa = 360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What are the genotype ratios?  Allele frequencies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Georgia"/>
              </a:rPr>
              <a:t>Use directional, stabilizing or disruptive selection to answer the following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2" marL="1110240" indent="-483480">
              <a:lnSpc>
                <a:spcPct val="90000"/>
              </a:lnSpc>
              <a:spcBef>
                <a:spcPts val="55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mice in the Arizona desert have either dark or light fur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2" marL="1110240" indent="-483480">
              <a:lnSpc>
                <a:spcPct val="90000"/>
              </a:lnSpc>
              <a:spcBef>
                <a:spcPts val="55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irds produce 4-5 eggs per clutch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2" marL="1110240" indent="-483480">
              <a:lnSpc>
                <a:spcPct val="90000"/>
              </a:lnSpc>
              <a:spcBef>
                <a:spcPts val="55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verage human baby weighs 7 lbs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2" marL="1110240" indent="-483480">
              <a:lnSpc>
                <a:spcPct val="90000"/>
              </a:lnSpc>
              <a:spcBef>
                <a:spcPts val="55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arwin's finches and beak size during drought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86440" indent="-483480">
              <a:lnSpc>
                <a:spcPct val="10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Diagram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14698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66480" y="1752120"/>
            <a:ext cx="8305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Natural selection can alter frequency distribution of heritable traits in 3 ways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Directional selec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Disruptive (diversifying) selec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Stabilizing selec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9" name="Picture 5" descr="disrupt"/>
          <p:cNvPicPr/>
          <p:nvPr/>
        </p:nvPicPr>
        <p:blipFill>
          <a:blip r:embed="rId2"/>
          <a:stretch/>
        </p:blipFill>
        <p:spPr>
          <a:xfrm>
            <a:off x="4952880" y="39304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img.sparknotes.com/figures/A/a3aa6bb95c7d70781cc0089d17f9160f/direct.gif"/>
          <p:cNvPicPr/>
          <p:nvPr/>
        </p:nvPicPr>
        <p:blipFill>
          <a:blip r:embed="rId3"/>
          <a:stretch/>
        </p:blipFill>
        <p:spPr>
          <a:xfrm>
            <a:off x="4952880" y="4076640"/>
            <a:ext cx="4000680" cy="1981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http://img.sparknotes.com/figures/A/a3aa6bb95c7d70781cc0089d17f9160f/stable.gif"/>
          <p:cNvPicPr/>
          <p:nvPr/>
        </p:nvPicPr>
        <p:blipFill>
          <a:blip r:embed="rId4"/>
          <a:stretch/>
        </p:blipFill>
        <p:spPr>
          <a:xfrm>
            <a:off x="4952880" y="3930480"/>
            <a:ext cx="4000680" cy="26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Diagram 4" descr=""/>
          <p:cNvPicPr/>
          <p:nvPr/>
        </p:nvPicPr>
        <p:blipFill>
          <a:blip r:embed="rId1"/>
          <a:stretch/>
        </p:blipFill>
        <p:spPr>
          <a:xfrm>
            <a:off x="378000" y="0"/>
            <a:ext cx="8540640" cy="14508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360360" y="5322960"/>
            <a:ext cx="293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Directional Selection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: eg. larger black bears survive extreme cold better than small on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3308400" y="53038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Disruptive Selection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eg. small beaks for small seeds; large beaks for large seed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6172200" y="53197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Stabilizing Selection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: eg. narrow range of human birth weigh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6" name="Picture 8" descr="23_13_SelectionModes-L.jpg"/>
          <p:cNvPicPr/>
          <p:nvPr/>
        </p:nvPicPr>
        <p:blipFill>
          <a:blip r:embed="rId2"/>
          <a:stretch/>
        </p:blipFill>
        <p:spPr>
          <a:xfrm>
            <a:off x="868320" y="88920"/>
            <a:ext cx="7361280" cy="51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Sexual selec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Form of natural selection – certain individuals more likely to obtain mates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entury Gothic"/>
              </a:rPr>
              <a:t>Sexual dimorphism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: difference between 2 sexes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Size, color, ornamentation, behavior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19" name="Picture 5" descr="23_15SexualDimorphism-L.jpg"/>
          <p:cNvPicPr/>
          <p:nvPr/>
        </p:nvPicPr>
        <p:blipFill>
          <a:blip r:embed="rId1"/>
          <a:stretch/>
        </p:blipFill>
        <p:spPr>
          <a:xfrm>
            <a:off x="382680" y="3797280"/>
            <a:ext cx="3971880" cy="274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0" name="Picture 4" descr="http://26.media.tumblr.com/tumblr_lh047lpMjQ1qatyxoo1_r1_500.jpg"/>
          <p:cNvPicPr/>
          <p:nvPr/>
        </p:nvPicPr>
        <p:blipFill>
          <a:blip r:embed="rId2"/>
          <a:stretch/>
        </p:blipFill>
        <p:spPr>
          <a:xfrm>
            <a:off x="4619520" y="3797280"/>
            <a:ext cx="4127760" cy="274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Sexual selec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entury Gothic"/>
              </a:rPr>
              <a:t>Intrasexual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– selection within same sex (eg. M compete with other M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entury Gothic"/>
              </a:rPr>
              <a:t>Intersexual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– mate choice (eg. F choose showy M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1989000" y="3276720"/>
            <a:ext cx="49849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  <a:ea typeface="ＭＳ Ｐゴシック"/>
              </a:rPr>
              <a:t>Preserving genetic vari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entury Gothic"/>
                <a:ea typeface="ＭＳ Ｐゴシック"/>
              </a:rPr>
              <a:t>Diploidy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: hide recessive alleles that are less favorable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entury Gothic"/>
                <a:ea typeface="ＭＳ Ｐゴシック"/>
              </a:rPr>
              <a:t>Heterozygote advantage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  <a:ea typeface="ＭＳ Ｐゴシック"/>
              </a:rPr>
              <a:t>: greater fitness than homozygotes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eg. Sickle cell disease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6" name="Picture 2" descr="http://www.frcblog.com/wp-content/uploads/2009/12/sicklecells2.jpg"/>
          <p:cNvPicPr/>
          <p:nvPr/>
        </p:nvPicPr>
        <p:blipFill>
          <a:blip r:embed="rId1"/>
          <a:stretch/>
        </p:blipFill>
        <p:spPr>
          <a:xfrm>
            <a:off x="1969920" y="4348080"/>
            <a:ext cx="2676600" cy="21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7" name="Picture 4" descr="23_17MalariaSickleCelMap-L.jpg"/>
          <p:cNvPicPr/>
          <p:nvPr/>
        </p:nvPicPr>
        <p:blipFill>
          <a:blip r:embed="rId2"/>
          <a:stretch/>
        </p:blipFill>
        <p:spPr>
          <a:xfrm>
            <a:off x="5095800" y="3395520"/>
            <a:ext cx="3438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Book Antiqua"/>
                <a:ea typeface="ＭＳ Ｐゴシック"/>
              </a:rPr>
              <a:t>Natural selection cannot fashion perfect organisms.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, natural selection, and the environment interact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22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Sample Problem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3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Define the following examples as directional, disruptive, or stabilizing selection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1121760" indent="-488520">
              <a:lnSpc>
                <a:spcPct val="100000"/>
              </a:lnSpc>
              <a:spcBef>
                <a:spcPts val="70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Tiger cubs usually weigh 2-3 lbs. at birth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1121760" indent="-488520">
              <a:lnSpc>
                <a:spcPct val="100000"/>
              </a:lnSpc>
              <a:spcBef>
                <a:spcPts val="70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Butterflies in 2 different colors each represent a species distasteful to bird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1121760" indent="-488520">
              <a:lnSpc>
                <a:spcPct val="100000"/>
              </a:lnSpc>
              <a:spcBef>
                <a:spcPts val="70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Brightly colored birds mate more frequently than drab birds of same specie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2" marL="1121760" indent="-488520">
              <a:lnSpc>
                <a:spcPct val="100000"/>
              </a:lnSpc>
              <a:spcBef>
                <a:spcPts val="700"/>
              </a:spcBef>
              <a:buClr>
                <a:srgbClr val="b5ae53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Georgia"/>
              </a:rPr>
              <a:t>Fossil evidence of horse size increasing over time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0368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apter 23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7534c"/>
                </a:solidFill>
                <a:latin typeface="Book Antiqua"/>
              </a:rPr>
              <a:t>The Evolution of Populations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Picture 3" descr="23_01MedGroundFinch-L.jpg"/>
          <p:cNvPicPr/>
          <p:nvPr/>
        </p:nvPicPr>
        <p:blipFill>
          <a:blip r:embed="rId1"/>
          <a:stretch/>
        </p:blipFill>
        <p:spPr>
          <a:xfrm>
            <a:off x="2224080" y="741240"/>
            <a:ext cx="3367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7d72"/>
                </a:solidFill>
                <a:latin typeface="Book Antiqua"/>
              </a:rPr>
              <a:t>What you must know: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How mutation and sexual reproduction each produce genetic variation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The conditions for Hardy-Weinberg equilibrium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How to use the Hardy-Weinburg equation to calculate allelic frequencies and to test whether a population is evolving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mallest unit of evolution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Microevolution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change in the allele frequencies of a population over generation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1803240" y="3030480"/>
            <a:ext cx="55245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34880" y="374400"/>
            <a:ext cx="5905440" cy="59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Darwin did not know how organisms passed traits to offspring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1866 - Mendel published his paper on genetics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Mendelian genetics supports Darwin</a:t>
            </a:r>
            <a:r>
              <a:rPr b="0" lang="ja-JP" sz="2800" spc="-1" strike="noStrike">
                <a:solidFill>
                  <a:srgbClr val="564b3c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s theory </a:t>
            </a:r>
            <a:r>
              <a:rPr b="0" lang="en-US" sz="28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Evolution is based on </a:t>
            </a:r>
            <a:r>
              <a:rPr b="1" lang="en-US" sz="2800" spc="-1" strike="noStrike" u="sng">
                <a:solidFill>
                  <a:srgbClr val="564b3c"/>
                </a:solidFill>
                <a:uFillTx/>
                <a:latin typeface="Century Gothic"/>
              </a:rPr>
              <a:t>genetic vari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6" name="Picture 2" descr="http://diogenesii.files.wordpress.com/2008/01/charles_darwin_1854.jpg"/>
          <p:cNvPicPr/>
          <p:nvPr/>
        </p:nvPicPr>
        <p:blipFill>
          <a:blip r:embed="rId1"/>
          <a:stretch/>
        </p:blipFill>
        <p:spPr>
          <a:xfrm>
            <a:off x="6566040" y="351000"/>
            <a:ext cx="1882800" cy="294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7" name="Picture 4" descr="http://history.nih.gov/exhibits/nirenberg/images/photos/01_mendel_pu.jpg"/>
          <p:cNvPicPr/>
          <p:nvPr/>
        </p:nvPicPr>
        <p:blipFill>
          <a:blip r:embed="rId2"/>
          <a:stretch/>
        </p:blipFill>
        <p:spPr>
          <a:xfrm>
            <a:off x="6340320" y="3562200"/>
            <a:ext cx="2305080" cy="301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ources of Genetic Variation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Point mutations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changes in one base (eg. sickle cell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Chromosomal mutations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delete, duplicate, disrupt, rearrange </a:t>
            </a:r>
            <a:r>
              <a:rPr b="0" lang="en-US" sz="28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 usually harmful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Century Gothic"/>
              </a:rPr>
              <a:t>Sexual recombination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: contributes to most of genetic variation in a population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754200" indent="-343080">
              <a:lnSpc>
                <a:spcPct val="90000"/>
              </a:lnSpc>
              <a:spcBef>
                <a:spcPts val="700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Crossing Over (Meiosis – Prophase I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754200" indent="-343080">
              <a:lnSpc>
                <a:spcPct val="90000"/>
              </a:lnSpc>
              <a:spcBef>
                <a:spcPts val="700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ndependent Assortment of Chromosomes (during meiosis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lvl="1" marL="754200" indent="-343080">
              <a:lnSpc>
                <a:spcPct val="90000"/>
              </a:lnSpc>
              <a:spcBef>
                <a:spcPts val="700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Random Fertilization (sperm + egg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3"/>
          <p:cNvGrpSpPr/>
          <p:nvPr/>
        </p:nvGrpSpPr>
        <p:grpSpPr>
          <a:xfrm>
            <a:off x="457200" y="958680"/>
            <a:ext cx="8229600" cy="1587600"/>
            <a:chOff x="457200" y="958680"/>
            <a:chExt cx="8229600" cy="1587600"/>
          </a:xfrm>
        </p:grpSpPr>
        <p:sp>
          <p:nvSpPr>
            <p:cNvPr id="351" name="Rounded Rectangle 4"/>
            <p:cNvSpPr/>
            <p:nvPr/>
          </p:nvSpPr>
          <p:spPr>
            <a:xfrm>
              <a:off x="457200" y="958680"/>
              <a:ext cx="8229600" cy="1587600"/>
            </a:xfrm>
            <a:prstGeom prst="roundRect">
              <a:avLst>
                <a:gd name="adj" fmla="val 16667"/>
              </a:avLst>
            </a:prstGeom>
            <a:solidFill>
              <a:srgbClr val="93a2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Rounded Rectangle 4"/>
            <p:cNvSpPr/>
            <p:nvPr/>
          </p:nvSpPr>
          <p:spPr>
            <a:xfrm>
              <a:off x="534960" y="1036440"/>
              <a:ext cx="807408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600" rIns="129600" tIns="129600" bIns="12960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r>
                <a:rPr b="1" lang="en-US" sz="3200" spc="-1" strike="noStrike" u="sng">
                  <a:solidFill>
                    <a:srgbClr val="660066"/>
                  </a:solidFill>
                  <a:uFillTx/>
                  <a:latin typeface="Century Gothic"/>
                </a:rPr>
                <a:t>Population genetics</a:t>
              </a:r>
              <a:r>
                <a:rPr b="0" lang="en-US" sz="3200" spc="-1" strike="noStrike">
                  <a:solidFill>
                    <a:srgbClr val="ffffff"/>
                  </a:solidFill>
                  <a:latin typeface="Century Gothic"/>
                </a:rPr>
                <a:t>: study of how populations change genetically over time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3" name="Group 6"/>
          <p:cNvGrpSpPr/>
          <p:nvPr/>
        </p:nvGrpSpPr>
        <p:grpSpPr>
          <a:xfrm>
            <a:off x="457200" y="3279600"/>
            <a:ext cx="8229600" cy="2471760"/>
            <a:chOff x="457200" y="3279600"/>
            <a:chExt cx="8229600" cy="2471760"/>
          </a:xfrm>
        </p:grpSpPr>
        <p:sp>
          <p:nvSpPr>
            <p:cNvPr id="354" name="Rounded Rectangle 7"/>
            <p:cNvSpPr/>
            <p:nvPr/>
          </p:nvSpPr>
          <p:spPr>
            <a:xfrm>
              <a:off x="457200" y="3279600"/>
              <a:ext cx="8229600" cy="2471760"/>
            </a:xfrm>
            <a:prstGeom prst="roundRect">
              <a:avLst>
                <a:gd name="adj" fmla="val 16667"/>
              </a:avLst>
            </a:prstGeom>
            <a:solidFill>
              <a:srgbClr val="93a2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Rounded Rectangle 4"/>
            <p:cNvSpPr/>
            <p:nvPr/>
          </p:nvSpPr>
          <p:spPr>
            <a:xfrm>
              <a:off x="577800" y="3400200"/>
              <a:ext cx="7988400" cy="22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600" rIns="129600" tIns="129600" bIns="12960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r>
                <a:rPr b="1" lang="en-US" sz="3200" spc="-1" strike="noStrike" u="sng">
                  <a:solidFill>
                    <a:srgbClr val="660066"/>
                  </a:solidFill>
                  <a:uFillTx/>
                  <a:latin typeface="Century Gothic"/>
                </a:rPr>
                <a:t>Population</a:t>
              </a:r>
              <a:r>
                <a:rPr b="0" lang="en-US" sz="3200" spc="-1" strike="noStrike">
                  <a:solidFill>
                    <a:srgbClr val="ffffff"/>
                  </a:solidFill>
                  <a:latin typeface="Century Gothic"/>
                </a:rPr>
                <a:t>: group of individuals that live in the same area and interbreed, producing fertile offspring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12:32Z</dcterms:created>
  <dc:creator>local</dc:creator>
  <dc:description/>
  <dc:language>en-US</dc:language>
  <cp:lastModifiedBy>local</cp:lastModifiedBy>
  <dcterms:modified xsi:type="dcterms:W3CDTF">2012-02-08T20:32:35Z</dcterms:modified>
  <cp:revision>30</cp:revision>
  <dc:subject/>
  <dc:title>The Evolution of Populations</dc:title>
</cp:coreProperties>
</file>